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AE8-3DD8-4ECB-8C93-2AC04389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193-8530-45BE-A4DF-F0C5359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001-FE2B-4D98-AE84-E0040C0C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A4E-982B-428A-AA13-77E6C14A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D39-FF6F-44EB-A8E8-8D044F81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042-B6A0-4F52-97AE-F3759865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B8B-3AFA-408A-ADFB-E5A9E47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23D-CAC5-47CE-852A-424A8BA3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005-99D8-4822-9427-0C80F6FF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538-3121-42CA-99E2-256FC9A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1A6-F51B-4FAE-934E-5B3E3F3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CA7-92C7-4FA5-AC22-6E55CD4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681A-8A0A-45DB-8874-B2B7B6E3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40" y="15192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Me llamo ___________  Clase 701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La fecha es el  23 de enero del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99840"/>
            <a:ext cx="8762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osito # 46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repasamos para QUIZ 2: CAPITULO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rite 2 Spanish sentences about each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is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t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asque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z 2: Capitul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DOS DEPORTES POPULARES EN ESTADOS U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53352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1:06:12Z</dcterms:created>
  <dc:creator>Helen Zumaeta</dc:creator>
  <dc:description/>
  <dc:language>en-US</dc:language>
  <cp:lastModifiedBy>Helen Zumaeta</cp:lastModifiedBy>
  <cp:lastPrinted>2015-01-23T14:39:15Z</cp:lastPrinted>
  <dcterms:modified xsi:type="dcterms:W3CDTF">2015-01-23T14:58:02Z</dcterms:modified>
  <cp:revision>37</cp:revision>
  <dc:subject/>
  <dc:title>Me llamo ___________  Clase 7 IM La fecha es el 18 de noviembre del 2010</dc:title>
</cp:coreProperties>
</file>